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2900160" y="527040"/>
            <a:ext cx="35096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7E7-F0AF-4D0A-84D5-F65CD412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7CD-76AE-4D06-81F5-FBB94B4CA27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0AA-A9EF-4F91-B46A-62318DDBDA3C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52C6-CA04-4F66-955B-FC043C070E8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C07-083A-419C-89C7-A53398F86EF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87C-3201-4405-8760-432E4429D79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E5A9-37EC-4443-AEBA-84917D02ECE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C47-F38F-4EFA-BB8B-3EB5188F1C8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1EF-9C27-45EB-967E-07F457A0F78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3770-367B-4DD5-BA9E-89A279B8522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8AC-43E7-4B9F-B261-A182B0FDF77B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E209-4C38-4D2B-9BE0-6B92BCB2CC3B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http://www.50states.com/ to find information about you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BBA2-C6F7-4D01-9452-D798F2BFAB5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F6A-8D1E-423C-AD83-80597B4D2A21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F214-1E04-4335-86F3-87F35D8FC18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707-F93C-4EA0-98D5-8914B560A13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E6AD-BD0D-459A-87B9-76AE46BAF7C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EC56-C6CD-4E0B-96CC-354C069344A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D4E5-7476-4DEB-9B9C-0B58A54D1FC6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314-8983-4F44-83B3-C57FBFBAB6B6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25D-F87E-41E7-A616-EE6514CA3AB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15B-4DB1-42F3-8C1C-270F719BC87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DBAC-6D69-4AFE-80F9-D292F5EDD25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60E-3BBD-4586-8142-24850547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B1C-9547-4D20-A9B4-0244F06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438-4477-4786-B0AE-64EDE88E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39B-5245-44A1-A525-74A6C8EE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12C7-C9C2-47FA-A376-45DCE826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CC1E-DB2D-45D9-86CC-5F8F773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1822-4447-481B-9830-951DE07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B72-B03A-4AAE-8232-5D21CCBF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B78-B242-46ED-95BF-149C9878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37BD-313F-4FA3-858E-AF742455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3F05-A247-42F7-8C2A-7BF33B1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858-7C50-4225-9EC5-D901973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7A6-387B-4F33-AB08-AB2F19E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2943-539C-4B8C-BA61-40AFAF4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599-3828-4367-9277-94487A8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4C9-237F-4CA9-A7C3-B88D1F96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F2C-3E5F-4562-9859-21A2286F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BAB-36C2-4615-85F0-BEC9FB9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6E9-023E-4FF7-AD6A-35C7FCD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FAB-183A-4CB5-8549-3C7E290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D11-EADC-4049-90EB-9A1EB46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476-0CFF-4601-8388-F5376B2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DC0-042C-40A6-ADFE-3003945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9D6-110C-4D0E-9FFB-ED712595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1440" y="843840"/>
                  <a:ext cx="1064160" cy="1141200"/>
                  <a:chOff x="7831440" y="843840"/>
                  <a:chExt cx="106416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6560" y="1136880"/>
                    <a:ext cx="893160" cy="160920"/>
                  </a:xfrm>
                  <a:custGeom>
                    <a:avLst/>
                    <a:gdLst>
                      <a:gd name="textAreaLeft" fmla="*/ 0 w 893160"/>
                      <a:gd name="textAreaRight" fmla="*/ 893520 w 89316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10320" y="1606680"/>
                    <a:ext cx="465120" cy="249840"/>
                  </a:xfrm>
                  <a:custGeom>
                    <a:avLst/>
                    <a:gdLst>
                      <a:gd name="textAreaLeft" fmla="*/ 0 w 465120"/>
                      <a:gd name="textAreaRight" fmla="*/ 465480 w 465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>
                      <a:gd name="textAreaLeft" fmla="*/ 0 w 861480"/>
                      <a:gd name="textAreaRight" fmla="*/ 861840 w 86148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960" y="657720"/>
                  <a:ext cx="1223640" cy="417240"/>
                  <a:chOff x="785196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71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801360"/>
                    <a:ext cx="425160" cy="2462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46240"/>
                      <a:gd name="textAreaBottom" fmla="*/ 246600 h 246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20120"/>
                  <a:ext cx="984600" cy="325800"/>
                  <a:chOff x="7845480" y="420120"/>
                  <a:chExt cx="984600" cy="3258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7360"/>
                    <a:ext cx="628920" cy="106920"/>
                  </a:xfrm>
                  <a:custGeom>
                    <a:avLst/>
                    <a:gdLst>
                      <a:gd name="textAreaLeft" fmla="*/ 0 w 628920"/>
                      <a:gd name="textAreaRight" fmla="*/ 628920 w 62892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8360" y="456480"/>
                    <a:ext cx="335520" cy="177480"/>
                  </a:xfrm>
                  <a:custGeom>
                    <a:avLst/>
                    <a:gdLst>
                      <a:gd name="textAreaLeft" fmla="*/ 0 w 335520"/>
                      <a:gd name="textAreaRight" fmla="*/ 335880 w 3355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custGeom>
                    <a:avLst/>
                    <a:gdLst>
                      <a:gd name="textAreaLeft" fmla="*/ -360 w 880200"/>
                      <a:gd name="textAreaRight" fmla="*/ 880200 w 880200"/>
                      <a:gd name="textAreaTop" fmla="*/ 0 h 154440"/>
                      <a:gd name="textAreaBottom" fmla="*/ 154800 h 154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custGeom>
                    <a:avLst/>
                    <a:gdLst>
                      <a:gd name="textAreaLeft" fmla="*/ 360 w 471600"/>
                      <a:gd name="textAreaRight" fmla="*/ 472320 w 471600"/>
                      <a:gd name="textAreaTop" fmla="*/ 0 h 254160"/>
                      <a:gd name="textAreaBottom" fmla="*/ 254520 h 254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>
                      <a:gd name="textAreaLeft" fmla="*/ -360 w 928440"/>
                      <a:gd name="textAreaRight" fmla="*/ 928440 w 9284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8040"/>
                      <a:gd name="textAreaBottom" fmla="*/ 158400 h 15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>
                      <a:gd name="textAreaLeft" fmla="*/ 0 w 540360"/>
                      <a:gd name="textAreaRight" fmla="*/ 540360 w 54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>
                      <a:gd name="textAreaLeft" fmla="*/ 360 w 295920"/>
                      <a:gd name="textAreaRight" fmla="*/ 296640 w 29592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>
                      <a:gd name="textAreaLeft" fmla="*/ 0 w 630360"/>
                      <a:gd name="textAreaRight" fmla="*/ 630720 w 63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>
                      <a:gd name="textAreaLeft" fmla="*/ 0 w 331560"/>
                      <a:gd name="textAreaRight" fmla="*/ 331560 w 3315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>
                      <a:gd name="textAreaLeft" fmla="*/ 0 w 636120"/>
                      <a:gd name="textAreaRight" fmla="*/ 636480 w 63612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>
                      <a:gd name="textAreaLeft" fmla="*/ 0 w 541800"/>
                      <a:gd name="textAreaRight" fmla="*/ 542160 w 54180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>
                      <a:gd name="textAreaLeft" fmla="*/ 0 w 294120"/>
                      <a:gd name="textAreaRight" fmla="*/ 294480 w 2941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1320"/>
                  <a:ext cx="918000" cy="1247400"/>
                  <a:chOff x="6710400" y="931320"/>
                  <a:chExt cx="91800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0800" y="1263600"/>
                    <a:ext cx="900000" cy="160200"/>
                  </a:xfrm>
                  <a:custGeom>
                    <a:avLst/>
                    <a:gdLst>
                      <a:gd name="textAreaLeft" fmla="*/ 360 w 900000"/>
                      <a:gd name="textAreaRight" fmla="*/ 900720 w 9000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560"/>
                  <a:ext cx="619200" cy="1248480"/>
                  <a:chOff x="7015320" y="979560"/>
                  <a:chExt cx="61920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4000" y="1314720"/>
                    <a:ext cx="833400" cy="160920"/>
                  </a:xfrm>
                  <a:custGeom>
                    <a:avLst/>
                    <a:gdLst>
                      <a:gd name="textAreaLeft" fmla="*/ -360 w 833400"/>
                      <a:gd name="textAreaRight" fmla="*/ 833400 w 833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6960" y="1854000"/>
                    <a:ext cx="433440" cy="251280"/>
                  </a:xfrm>
                  <a:custGeom>
                    <a:avLst/>
                    <a:gdLst>
                      <a:gd name="textAreaLeft" fmla="*/ 360 w 433440"/>
                      <a:gd name="textAreaRight" fmla="*/ 434160 w 4334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960" cy="1217520"/>
                  <a:chOff x="7312320" y="1001160"/>
                  <a:chExt cx="36396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3040" y="1329120"/>
                    <a:ext cx="789480" cy="146520"/>
                  </a:xfrm>
                  <a:custGeom>
                    <a:avLst/>
                    <a:gdLst>
                      <a:gd name="textAreaLeft" fmla="*/ -360 w 789480"/>
                      <a:gd name="textAreaRight" fmla="*/ 789480 w 789480"/>
                      <a:gd name="textAreaTop" fmla="*/ 0 h 146520"/>
                      <a:gd name="textAreaBottom" fmla="*/ 146880 h 146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200" y="1876680"/>
                    <a:ext cx="423000" cy="225360"/>
                  </a:xfrm>
                  <a:custGeom>
                    <a:avLst/>
                    <a:gdLst>
                      <a:gd name="textAreaLeft" fmla="*/ -360 w 423000"/>
                      <a:gd name="textAreaRight" fmla="*/ 423000 w 42300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520"/>
                    <a:ext cx="845640" cy="153720"/>
                  </a:xfrm>
                  <a:custGeom>
                    <a:avLst/>
                    <a:gdLst>
                      <a:gd name="textAreaLeft" fmla="*/ 0 w 845640"/>
                      <a:gd name="textAreaRight" fmla="*/ 846000 w 84564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400" cy="241200"/>
                  </a:xfrm>
                  <a:custGeom>
                    <a:avLst/>
                    <a:gdLst>
                      <a:gd name="textAreaLeft" fmla="*/ 0 w 455400"/>
                      <a:gd name="textAreaRight" fmla="*/ 455760 w 45540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200" y="1005120"/>
                  <a:ext cx="511560" cy="1242360"/>
                  <a:chOff x="7756200" y="1005120"/>
                  <a:chExt cx="5115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3000" y="1355040"/>
                    <a:ext cx="829080" cy="125280"/>
                  </a:xfrm>
                  <a:custGeom>
                    <a:avLst/>
                    <a:gdLst>
                      <a:gd name="textAreaLeft" fmla="*/ 0 w 829080"/>
                      <a:gd name="textAreaRight" fmla="*/ 829440 w 82908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0760" y="1906200"/>
                    <a:ext cx="444240" cy="198360"/>
                  </a:xfrm>
                  <a:custGeom>
                    <a:avLst/>
                    <a:gdLst>
                      <a:gd name="textAreaLeft" fmla="*/ 0 w 444240"/>
                      <a:gd name="textAreaRight" fmla="*/ 444600 w 44424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89800" cy="1155600"/>
                  <a:chOff x="7733880" y="1058760"/>
                  <a:chExt cx="28980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560"/>
                    <a:ext cx="750240" cy="126360"/>
                  </a:xfrm>
                  <a:custGeom>
                    <a:avLst/>
                    <a:gdLst>
                      <a:gd name="textAreaLeft" fmla="*/ 0 w 750240"/>
                      <a:gd name="textAreaRight" fmla="*/ 750600 w 7502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1400" y="1898280"/>
                    <a:ext cx="409680" cy="197640"/>
                  </a:xfrm>
                  <a:custGeom>
                    <a:avLst/>
                    <a:gdLst>
                      <a:gd name="textAreaLeft" fmla="*/ 0 w 409680"/>
                      <a:gd name="textAreaRight" fmla="*/ 410040 w 4096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499880" y="1077840"/>
                  <a:ext cx="277920" cy="1131120"/>
                  <a:chOff x="7499880" y="1077840"/>
                  <a:chExt cx="277920" cy="113112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6280" y="1407600"/>
                    <a:ext cx="749880" cy="9576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5120" y="1925640"/>
                    <a:ext cx="401400" cy="151560"/>
                  </a:xfrm>
                  <a:custGeom>
                    <a:avLst/>
                    <a:gdLst>
                      <a:gd name="textAreaLeft" fmla="*/ 0 w 401400"/>
                      <a:gd name="textAreaRight" fmla="*/ 401760 w 4014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CDF-2CC0-4A9A-B511-7FAF8F1AB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560"/>
            <a:chOff x="2010960" y="245520"/>
            <a:chExt cx="6896160" cy="545256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75600"/>
              <a:ext cx="945720" cy="708840"/>
              <a:chOff x="3484080" y="975600"/>
              <a:chExt cx="945720" cy="708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75600"/>
                <a:ext cx="945720" cy="708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87000"/>
                <a:ext cx="23004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560"/>
              <a:chOff x="2010960" y="245520"/>
              <a:chExt cx="6896160" cy="54525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0760" cy="5452560"/>
                <a:chOff x="2010960" y="245520"/>
                <a:chExt cx="6890760" cy="54525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040"/>
                  <a:ext cx="3599280" cy="2654280"/>
                  <a:chOff x="3735720" y="1265040"/>
                  <a:chExt cx="3599280" cy="26542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040"/>
                    <a:ext cx="3599280" cy="2654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680"/>
                    <a:ext cx="7124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0760" cy="5452560"/>
                  <a:chOff x="2010960" y="245520"/>
                  <a:chExt cx="6890760" cy="54525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23080"/>
                    <a:ext cx="2561760" cy="2741400"/>
                    <a:chOff x="5759640" y="2323080"/>
                    <a:chExt cx="2561760" cy="27414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1800" y="3021480"/>
                      <a:ext cx="2130120" cy="385560"/>
                    </a:xfrm>
                    <a:custGeom>
                      <a:avLst/>
                      <a:gdLst>
                        <a:gd name="textAreaLeft" fmla="*/ 0 w 2130120"/>
                        <a:gd name="textAreaRight" fmla="*/ 2130480 w 213012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560" y="414504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6320"/>
                    <a:ext cx="3040200" cy="2527200"/>
                    <a:chOff x="5787360" y="2146320"/>
                    <a:chExt cx="3040200" cy="25272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320"/>
                      <a:ext cx="2235600" cy="42732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360"/>
                      <a:ext cx="1200960" cy="67176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400" y="2058840"/>
                    <a:ext cx="3098880" cy="1995480"/>
                    <a:chOff x="5774400" y="2058840"/>
                    <a:chExt cx="3098880" cy="19954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4600"/>
                      <a:ext cx="2140560" cy="3765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6560"/>
                        <a:gd name="textAreaBottom" fmla="*/ 376920 h 37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0360"/>
                      <a:ext cx="1149120" cy="5889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8960"/>
                        <a:gd name="textAreaBottom" fmla="*/ 589320 h 588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480"/>
                    <a:ext cx="3133800" cy="1606680"/>
                    <a:chOff x="5767920" y="1968480"/>
                    <a:chExt cx="3133800" cy="16066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360"/>
                      <a:ext cx="1110600" cy="6469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6920"/>
                        <a:gd name="textAreaBottom" fmla="*/ 647280 h 646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5240"/>
                    <a:ext cx="2939400" cy="1003320"/>
                    <a:chOff x="5805720" y="1875240"/>
                    <a:chExt cx="2939400" cy="10033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1240"/>
                      <a:ext cx="1903680" cy="38520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7160"/>
                      <a:ext cx="1023120" cy="60516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1880"/>
                    <a:ext cx="2658960" cy="444240"/>
                    <a:chOff x="5851080" y="1811880"/>
                    <a:chExt cx="2658960" cy="4442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3400"/>
                      <a:ext cx="929520" cy="421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200"/>
                        <a:gd name="textAreaBottom" fmla="*/ 421560 h 42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120"/>
                    <a:ext cx="2364120" cy="785520"/>
                    <a:chOff x="5788440" y="13021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6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920" y="2475360"/>
                    <a:ext cx="2557080" cy="2738520"/>
                    <a:chOff x="2644920" y="2475360"/>
                    <a:chExt cx="2557080" cy="27385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72680"/>
                      <a:ext cx="2126520" cy="3859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89920" y="4294800"/>
                      <a:ext cx="1142280" cy="602640"/>
                    </a:xfrm>
                    <a:custGeom>
                      <a:avLst/>
                      <a:gdLst>
                        <a:gd name="textAreaLeft" fmla="*/ -360 w 1142280"/>
                        <a:gd name="textAreaRight" fmla="*/ 1142280 w 11422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3680" y="2365200"/>
                    <a:ext cx="3040200" cy="2536560"/>
                    <a:chOff x="2083680" y="2365200"/>
                    <a:chExt cx="3040200" cy="25365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840"/>
                      <a:ext cx="2234160" cy="4273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640"/>
                      <a:ext cx="1199880" cy="6764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6440"/>
                        <a:gd name="textAreaBottom" fmla="*/ 676800 h 67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8800"/>
                    <a:ext cx="3096360" cy="1991880"/>
                    <a:chOff x="2040480" y="227880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404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4040"/>
                        <a:gd name="textAreaBottom" fmla="*/ 374400 h 374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816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10640"/>
                    <a:chOff x="2010960" y="2183760"/>
                    <a:chExt cx="3134520" cy="16106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4320" y="2493000"/>
                      <a:ext cx="2067840" cy="41328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3280"/>
                        <a:gd name="textAreaBottom" fmla="*/ 413640 h 413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2680"/>
                    <a:ext cx="2937240" cy="1004400"/>
                    <a:chOff x="2167560" y="2092680"/>
                    <a:chExt cx="2937240" cy="10044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18680"/>
                      <a:ext cx="1903680" cy="38520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240" cy="450360"/>
                    <a:chOff x="2403720" y="2027880"/>
                    <a:chExt cx="2658240" cy="4503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4600"/>
                      <a:ext cx="1730880" cy="27144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732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040"/>
                    <a:ext cx="2364480" cy="788400"/>
                    <a:chOff x="2760840" y="1517040"/>
                    <a:chExt cx="2364480" cy="78840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600" y="1866240"/>
                      <a:ext cx="1520280" cy="2667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920" y="1605600"/>
                      <a:ext cx="816120" cy="4186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8680"/>
                        <a:gd name="textAreaBottom" fmla="*/ 419040 h 418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5160"/>
                    <a:ext cx="2323080" cy="1084680"/>
                    <a:chOff x="2887920" y="1235160"/>
                    <a:chExt cx="2323080" cy="10846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704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080"/>
                      <a:ext cx="816120" cy="4129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7640"/>
                    <a:ext cx="2170080" cy="1508040"/>
                    <a:chOff x="3161160" y="8276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9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1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5960"/>
                    <a:ext cx="1987560" cy="1829520"/>
                    <a:chOff x="3437280" y="435960"/>
                    <a:chExt cx="1987560" cy="18295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7960"/>
                      <a:ext cx="1542600" cy="26568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00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2360" y="322200"/>
                    <a:ext cx="1457640" cy="1899360"/>
                    <a:chOff x="4032360" y="322200"/>
                    <a:chExt cx="1457640" cy="18993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3240"/>
                      <a:ext cx="1358280" cy="264960"/>
                    </a:xfrm>
                    <a:custGeom>
                      <a:avLst/>
                      <a:gdLst>
                        <a:gd name="textAreaLeft" fmla="*/ 0 w 1358280"/>
                        <a:gd name="textAreaRight" fmla="*/ 1358280 w 1358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7760" y="533160"/>
                      <a:ext cx="729000" cy="41652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480" cy="1950840"/>
                    <a:chOff x="4448160" y="245520"/>
                    <a:chExt cx="1122480" cy="19508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544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440"/>
                    <a:ext cx="2319480" cy="1115280"/>
                    <a:chOff x="5661720" y="946440"/>
                    <a:chExt cx="2319480" cy="11152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92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4320"/>
                      <a:ext cx="817560" cy="4208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20840"/>
                        <a:gd name="textAreaBottom" fmla="*/ 421200 h 420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120"/>
                    <a:ext cx="2201760" cy="1455480"/>
                    <a:chOff x="5529600" y="618120"/>
                    <a:chExt cx="2201760" cy="14554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524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2800"/>
                      <a:ext cx="817560" cy="4172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240"/>
                    <a:ext cx="1266840" cy="177480"/>
                  </a:xfrm>
                  <a:custGeom>
                    <a:avLst/>
                    <a:gdLst>
                      <a:gd name="textAreaLeft" fmla="*/ -360 w 1266840"/>
                      <a:gd name="textAreaRight" fmla="*/ 1266840 w 12668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720"/>
                    <a:ext cx="678960" cy="282240"/>
                  </a:xfrm>
                  <a:custGeom>
                    <a:avLst/>
                    <a:gdLst>
                      <a:gd name="textAreaLeft" fmla="*/ 360 w 678960"/>
                      <a:gd name="textAreaRight" fmla="*/ 679680 w 6789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8200"/>
                    <a:ext cx="1189800" cy="1893960"/>
                    <a:chOff x="5360040" y="268200"/>
                    <a:chExt cx="1189800" cy="18939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480"/>
                      <a:ext cx="1307520" cy="226800"/>
                    </a:xfrm>
                    <a:custGeom>
                      <a:avLst/>
                      <a:gdLst>
                        <a:gd name="textAreaLeft" fmla="*/ 0 w 1307520"/>
                        <a:gd name="textAreaRight" fmla="*/ 1307880 w 130752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2360" cy="3549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7640"/>
                    <a:ext cx="1890000" cy="1796760"/>
                    <a:chOff x="5349960" y="377640"/>
                    <a:chExt cx="189000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6280"/>
                      <a:ext cx="1428840" cy="333000"/>
                    </a:xfrm>
                    <a:custGeom>
                      <a:avLst/>
                      <a:gdLst>
                        <a:gd name="textAreaLeft" fmla="*/ 0 w 1428840"/>
                        <a:gd name="textAreaRight" fmla="*/ 1429200 w 142884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4200"/>
                      <a:ext cx="766800" cy="520200"/>
                    </a:xfrm>
                    <a:custGeom>
                      <a:avLst/>
                      <a:gdLst>
                        <a:gd name="textAreaLeft" fmla="*/ 0 w 766800"/>
                        <a:gd name="textAreaRight" fmla="*/ 767160 w 76680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1960"/>
                    <a:ext cx="426240" cy="1792080"/>
                    <a:chOff x="5458320" y="291960"/>
                    <a:chExt cx="426240" cy="17920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80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2440"/>
                      <a:ext cx="630000" cy="166320"/>
                    </a:xfrm>
                    <a:custGeom>
                      <a:avLst/>
                      <a:gdLst>
                        <a:gd name="textAreaLeft" fmla="*/ 0 w 630000"/>
                        <a:gd name="textAreaRight" fmla="*/ 630360 w 63000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4320" y="2527560"/>
                    <a:ext cx="2193480" cy="3004200"/>
                    <a:chOff x="3064320" y="2527560"/>
                    <a:chExt cx="219348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4960" y="3313800"/>
                      <a:ext cx="2131560" cy="383400"/>
                    </a:xfrm>
                    <a:custGeom>
                      <a:avLst/>
                      <a:gdLst>
                        <a:gd name="textAreaLeft" fmla="*/ 0 w 2131560"/>
                        <a:gd name="textAreaRight" fmla="*/ 2131560 w 213156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1160" y="4590360"/>
                      <a:ext cx="1139760" cy="604080"/>
                    </a:xfrm>
                    <a:custGeom>
                      <a:avLst/>
                      <a:gdLst>
                        <a:gd name="textAreaLeft" fmla="*/ 360 w 1139760"/>
                        <a:gd name="textAreaRight" fmla="*/ 114048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38800"/>
                    <a:ext cx="1484640" cy="3015000"/>
                    <a:chOff x="3787920" y="2638800"/>
                    <a:chExt cx="1484640" cy="3015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360" y="3430800"/>
                      <a:ext cx="1969560" cy="381960"/>
                    </a:xfrm>
                    <a:custGeom>
                      <a:avLst/>
                      <a:gdLst>
                        <a:gd name="textAreaLeft" fmla="*/ -360 w 1969560"/>
                        <a:gd name="textAreaRight" fmla="*/ 1969560 w 196956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38960" y="4749120"/>
                      <a:ext cx="1056960" cy="602640"/>
                    </a:xfrm>
                    <a:custGeom>
                      <a:avLst/>
                      <a:gdLst>
                        <a:gd name="textAreaLeft" fmla="*/ 360 w 1056960"/>
                        <a:gd name="textAreaRight" fmla="*/ 1057680 w 105696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497120" y="2682720"/>
                    <a:ext cx="876960" cy="2941200"/>
                    <a:chOff x="4497120" y="2682720"/>
                    <a:chExt cx="876960" cy="2941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3040" y="3471120"/>
                      <a:ext cx="1892880" cy="347400"/>
                    </a:xfrm>
                    <a:custGeom>
                      <a:avLst/>
                      <a:gdLst>
                        <a:gd name="textAreaLeft" fmla="*/ 360 w 1892880"/>
                        <a:gd name="textAreaRight" fmla="*/ 1893600 w 1892880"/>
                        <a:gd name="textAreaTop" fmla="*/ 0 h 347400"/>
                        <a:gd name="textAreaBottom" fmla="*/ 347760 h 347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54920" y="4802040"/>
                      <a:ext cx="1012680" cy="543960"/>
                    </a:xfrm>
                    <a:custGeom>
                      <a:avLst/>
                      <a:gdLst>
                        <a:gd name="textAreaLeft" fmla="*/ -360 w 1012680"/>
                        <a:gd name="textAreaRight" fmla="*/ 1012680 w 1012680"/>
                        <a:gd name="textAreaTop" fmla="*/ 0 h 543960"/>
                        <a:gd name="textAreaBottom" fmla="*/ 544320 h 543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120"/>
                    <a:ext cx="2280960" cy="2953800"/>
                    <a:chOff x="567792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760" y="3249720"/>
                      <a:ext cx="2129040" cy="38340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840" y="449712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8400"/>
                    <a:ext cx="1757160" cy="3038040"/>
                    <a:chOff x="5646240" y="2588400"/>
                    <a:chExt cx="1757160" cy="30380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200" y="3391200"/>
                      <a:ext cx="2036160" cy="369720"/>
                    </a:xfrm>
                    <a:custGeom>
                      <a:avLst/>
                      <a:gdLst>
                        <a:gd name="textAreaLeft" fmla="*/ 0 w 2036160"/>
                        <a:gd name="textAreaRight" fmla="*/ 2036520 w 203616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0760" y="4722120"/>
                      <a:ext cx="1090440" cy="57564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8640"/>
                    <a:ext cx="1229040" cy="2989440"/>
                    <a:chOff x="5576400" y="2708640"/>
                    <a:chExt cx="1229040" cy="29894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0600"/>
                      <a:ext cx="1973520" cy="30312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240"/>
                      <a:ext cx="1060920" cy="475920"/>
                    </a:xfrm>
                    <a:custGeom>
                      <a:avLst/>
                      <a:gdLst>
                        <a:gd name="textAreaLeft" fmla="*/ 0 w 1060920"/>
                        <a:gd name="textAreaRight" fmla="*/ 1061280 w 10609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480" y="2834640"/>
                    <a:ext cx="694440" cy="2787840"/>
                    <a:chOff x="5523480" y="2834640"/>
                    <a:chExt cx="694440" cy="27878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880" y="3601800"/>
                      <a:ext cx="1813680" cy="304200"/>
                    </a:xfrm>
                    <a:custGeom>
                      <a:avLst/>
                      <a:gdLst>
                        <a:gd name="textAreaLeft" fmla="*/ 0 w 1813680"/>
                        <a:gd name="textAreaRight" fmla="*/ 1814040 w 1813680"/>
                        <a:gd name="textAreaTop" fmla="*/ 0 h 304200"/>
                        <a:gd name="textAreaBottom" fmla="*/ 304560 h 30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3760" y="4867200"/>
                      <a:ext cx="975600" cy="475920"/>
                    </a:xfrm>
                    <a:custGeom>
                      <a:avLst/>
                      <a:gdLst>
                        <a:gd name="textAreaLeft" fmla="*/ 0 w 975600"/>
                        <a:gd name="textAreaRight" fmla="*/ 975960 w 97560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320" y="2883240"/>
                    <a:ext cx="665280" cy="2721600"/>
                    <a:chOff x="4963320" y="2883240"/>
                    <a:chExt cx="665280" cy="27216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2280"/>
                      <a:ext cx="1775880" cy="231480"/>
                    </a:xfrm>
                    <a:custGeom>
                      <a:avLst/>
                      <a:gdLst>
                        <a:gd name="textAreaLeft" fmla="*/ 0 w 1775880"/>
                        <a:gd name="textAreaRight" fmla="*/ 1776240 w 17758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080" y="4929480"/>
                      <a:ext cx="953280" cy="364680"/>
                    </a:xfrm>
                    <a:custGeom>
                      <a:avLst/>
                      <a:gdLst>
                        <a:gd name="textAreaLeft" fmla="*/ 0 w 953280"/>
                        <a:gd name="textAreaRight" fmla="*/ 953640 w 95328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160"/>
                <a:ext cx="6732720" cy="4529160"/>
                <a:chOff x="2174400" y="677160"/>
                <a:chExt cx="6732720" cy="45291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160"/>
                  <a:ext cx="6732720" cy="4529160"/>
                  <a:chOff x="2174400" y="677160"/>
                  <a:chExt cx="6732720" cy="45291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828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8280"/>
                      <a:gd name="textAreaBottom" fmla="*/ 2528280 h 252828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000"/>
                    <a:ext cx="2486880" cy="293832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8320"/>
                      <a:gd name="textAreaBottom" fmla="*/ 2938680 h 293832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83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8320"/>
                      <a:gd name="textAreaBottom" fmla="*/ 2938680 h 29383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480"/>
                    <a:ext cx="3133440" cy="294300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43000"/>
                      <a:gd name="textAreaBottom" fmla="*/ 2943360 h 294300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160"/>
                    <a:ext cx="2282760" cy="28443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4360"/>
                      <a:gd name="textAreaBottom" fmla="*/ 2844720 h 28443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29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920"/>
                      <a:gd name="textAreaBottom" fmla="*/ 2843280 h 28429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160"/>
                    <a:ext cx="515160" cy="18810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1000"/>
                      <a:gd name="textAreaBottom" fmla="*/ 1881360 h 18810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360"/>
                  <a:ext cx="546120" cy="10350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5000"/>
                    <a:gd name="textAreaBottom" fmla="*/ 1035360 h 103500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80840"/>
              <a:ext cx="6411960" cy="4705560"/>
              <a:chOff x="2343960" y="780840"/>
              <a:chExt cx="6411960" cy="47055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301200"/>
                <a:ext cx="598320" cy="182268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46720"/>
                <a:ext cx="2617200" cy="28396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39680"/>
                  <a:gd name="textAreaBottom" fmla="*/ 2840040 h 28396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89160"/>
                <a:ext cx="1534320" cy="29322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806120"/>
                <a:ext cx="2930760" cy="29322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217960"/>
                <a:ext cx="469800" cy="29322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204280"/>
                <a:ext cx="1238040" cy="29322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612960"/>
                <a:ext cx="598320" cy="182268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3013920"/>
                <a:ext cx="543600" cy="10328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2840"/>
                  <a:gd name="textAreaBottom" fmla="*/ 103284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50600"/>
                <a:ext cx="1338480" cy="187812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65920"/>
                <a:ext cx="858240" cy="187812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74120"/>
                <a:ext cx="1242000" cy="19717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1720"/>
                  <a:gd name="textAreaBottom" fmla="*/ 1972080 h 19717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76920"/>
                <a:ext cx="1872360" cy="13147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4720"/>
                  <a:gd name="textAreaBottom" fmla="*/ 1315080 h 13147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80840"/>
                <a:ext cx="819000" cy="17672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7240"/>
                  <a:gd name="textAreaBottom" fmla="*/ 1767600 h 1767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280" y="2221200"/>
                <a:ext cx="542880" cy="103140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1400"/>
                  <a:gd name="textAreaBottom" fmla="*/ 1031400 h 1031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1A2-6E5F-45C2-9E2A-C86B73E716D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50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Stat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[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Name of Your Stat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Na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ographic Location and Neighb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914400" y="2438280"/>
            <a:ext cx="71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State of (State) is located in the ____________________ region of the United Stat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st all the neighboring States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 of US Region (State) is located 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905120" y="3276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ease place a map of the US region your State is located i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one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609480" y="63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1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second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5335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2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third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5335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3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fourth and final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7200" y="60199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4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mous Peo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14400" y="1828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five well known residents of your state. Tell what they did to become famou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1600200"/>
            <a:ext cx="6705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current United States Senato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is state has ____ electoral vo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e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current governo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scribe the state’s legislatu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629400" y="3809880"/>
            <a:ext cx="2362320" cy="2819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678168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dd a Picture of the Current Governo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838080" y="1981080"/>
            <a:ext cx="7696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this space insert a political and/or physical map of your state.  The map must show the capital, major landforms, and historical/tourist are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1828800"/>
            <a:ext cx="7086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products of the state includ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gricultural (farm) product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ining product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nufactured good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s of (name of your st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bird i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flower 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tree 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6248520" y="3276720"/>
            <a:ext cx="1143000" cy="12189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3657600" y="5029200"/>
            <a:ext cx="11430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733920" y="19810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657600" y="5029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6248520" y="3429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914400" y="175248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major rivers and bodies of wat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er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a few different kinds of miner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 Resources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914400" y="2286000"/>
            <a:ext cx="79246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nt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some of the trees and wildflow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imal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some of the wild anim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ath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high temperature in July is _________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high temperature in January is __________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yearly precipitation is _____________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creational Activities of (name of your state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ist pro and college sports teams, and other various activit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st the resources you used for your research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Fla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ste the state flag here and give a brief explanation of what is on the fla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4343400" y="3962520"/>
            <a:ext cx="3581280" cy="2286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te Flag he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Nickna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at is the state’s nickname? Write a short explanation of how your state got this nickna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Mot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685800" y="1676520"/>
            <a:ext cx="701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ll about the state motto and what makes this state specia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838080" y="1447920"/>
            <a:ext cx="79250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Inhabita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major tribes of Native Americans that lived in this state. Include a few interesting facts about these peop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lo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ich explorers visited your state and where did they come fro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ttl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re was the first settlement located in your state? Who started the settlement and why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838080" y="175248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onial Day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your state was one of the original thirteen colonies, explain what life was probably like during that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ritorial Day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your state was a territory before it became a state, explain when the United States Congress created the territory. Explain how settlers were able to obtain land in the new territor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838080" y="175248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is state became the ____ state in the United States in ____. The first governor of the state was _________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Name of Your St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762120" y="213372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apital of (State) is _____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Abbreviation of (State) is _________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2010 Population of (State) is _____________________________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1371600" y="6019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ease Add a Picture of the State Capita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38:09Z</dcterms:created>
  <dc:creator>Connie Campbell</dc:creator>
  <dc:description/>
  <dc:language>en-US</dc:language>
  <cp:lastModifiedBy>rdepiro</cp:lastModifiedBy>
  <cp:lastPrinted>2001-06-01T13:12:48Z</cp:lastPrinted>
  <dcterms:modified xsi:type="dcterms:W3CDTF">2011-06-07T14:02:56Z</dcterms:modified>
  <cp:revision>26</cp:revision>
  <dc:subject/>
  <dc:title>Our 50 States: [Name of Your State]</dc:title>
</cp:coreProperties>
</file>